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107B-3343-4F2B-A728-6B8EB51B8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60B-27EA-4D1A-883E-7E120042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ABE-E9B4-4509-ACEF-7BEE7EE3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6FA-2638-4828-8106-BB58B56B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C8B-246C-4E01-B123-66B5F202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8D6-99EE-4B6D-9FCA-527ABDB2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D7E-BB7B-447B-8295-4A31962C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46E-7E18-4CB8-9114-404AE8F9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DBC-8ADB-4D03-AE53-F6C041AF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CA0-5315-4ED0-8F7B-B608EC53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1BD-1F6B-41DC-8276-57AE4A7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157-61E5-45EB-A0BB-56FC2454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B66-2172-4D1D-A71F-D70C1FE2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2E6E-CFDC-4966-9B3F-8687295902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use and effect of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nefici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NA viru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utr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ither harmful or beneficial to the organism but may be important in an evolutionary 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lent mu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tually impossible to detect because no observable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causes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ametic and somatic mut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metic – testis of males, ovaries of females, inher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atic – in normal body cells occuring beyond zygote formation, not inherited but may effect the person during their lifetime. Chimae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5" descr="fattyfood"/>
          <p:cNvPicPr/>
          <p:nvPr/>
        </p:nvPicPr>
        <p:blipFill>
          <a:blip r:embed="rId1"/>
          <a:stretch/>
        </p:blipFill>
        <p:spPr>
          <a:xfrm>
            <a:off x="324000" y="1268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153i1_Homer-WA"/>
          <p:cNvPicPr/>
          <p:nvPr/>
        </p:nvPicPr>
        <p:blipFill>
          <a:blip r:embed="rId2"/>
          <a:stretch/>
        </p:blipFill>
        <p:spPr>
          <a:xfrm>
            <a:off x="0" y="3233880"/>
            <a:ext cx="45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effect of m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rmfu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stic fibrosis and sickle cell ana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functional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binism – caused by mutation in gene of enzyme pathway of melan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albino_python"/>
          <p:cNvPicPr/>
          <p:nvPr/>
        </p:nvPicPr>
        <p:blipFill>
          <a:blip r:embed="rId1"/>
          <a:stretch/>
        </p:blipFill>
        <p:spPr>
          <a:xfrm>
            <a:off x="4932360" y="4052880"/>
            <a:ext cx="4211640" cy="28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%20ball%20python%20male%20100%2011-02_jpg"/>
          <p:cNvPicPr/>
          <p:nvPr/>
        </p:nvPicPr>
        <p:blipFill>
          <a:blip r:embed="rId2"/>
          <a:stretch/>
        </p:blipFill>
        <p:spPr>
          <a:xfrm>
            <a:off x="0" y="3860640"/>
            <a:ext cx="4788000" cy="2997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1:28:32Z</dcterms:created>
  <dc:creator>Matis</dc:creator>
  <dc:description/>
  <dc:language>en-US</dc:language>
  <cp:lastModifiedBy>LEGION2</cp:lastModifiedBy>
  <dcterms:modified xsi:type="dcterms:W3CDTF">2016-01-12T07:52:16Z</dcterms:modified>
  <cp:revision>7</cp:revision>
  <dc:subject/>
  <dc:title>Cause and effect of mutation</dc:title>
</cp:coreProperties>
</file>